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2B5D-7A74-4390-8F99-613A2950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212E-20BC-473F-A517-E4089E1D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E24A-3BBA-44F9-BCDF-DFAFFB9E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182F-7F8C-4030-B9F3-E77B6E2E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5E8A-8DB4-4E41-8962-071023C0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F3CA-C2D7-4888-84D7-3D1176EB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5ADB-E83C-4F38-BA2F-2EA4919D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8BC4-4F71-4DDA-AE2C-46288416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809E-3190-4541-ABE2-B138C6BA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657A-9B34-4695-A5AA-509F3D9C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158B-F3DB-481B-BF99-E06CAA0D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B623-4F1A-4695-B6CB-F4E51D7F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B7FF-7598-45DE-BC9A-FDBC700F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D6C2-DD06-4452-AA36-79510815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3C2E-3F67-4CA9-982A-99CDFDC4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BAF8-CD79-45A2-BB1F-7AA6CD02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9CA6-7FB6-4E81-8CC4-8318E449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ED10-5266-4780-9735-F45B4B6B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7019-74CA-495A-AE5A-D45CE428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E91D-9C1E-4BC0-9455-3106B03B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741C-76E4-47C4-86B6-B6937290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F8C-DC0B-46C0-91AF-3B9437F9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8D07-D3CF-43DC-9B4A-31C2336B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F304-F081-4EAB-858F-E33DF75E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C761-491D-444C-AC28-DD75D2B6A1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0465-75B6-4254-A7BD-DEA1B155B7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6858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600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92720" y="533520"/>
            <a:ext cx="399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nstituição de 1967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600200"/>
            <a:ext cx="8686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t. 8°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Compete à União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      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XVII - legislar sobr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    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h) jazidas, minas e outros recursos minerais; metalurgia; florestas, caça e pesca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   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I) águas, energia elétrica e telecomunicações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45:56Z</dcterms:created>
  <dc:creator>Alexandre Braule</dc:creator>
  <dc:description/>
  <dc:language>en-US</dc:language>
  <cp:lastModifiedBy>Ana Salett</cp:lastModifiedBy>
  <dcterms:modified xsi:type="dcterms:W3CDTF">2004-08-10T21:25:19Z</dcterms:modified>
  <cp:revision>75</cp:revision>
  <dc:subject/>
  <dc:title>Apresentação do PowerPoint</dc:title>
</cp:coreProperties>
</file>